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D4F4-7BE1-433C-A9BE-FD2A5DA87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CE01-2A20-4E59-B42D-B6C00438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92CE-8A9A-4CCC-90B4-63F7ABD41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6439-187A-4325-810C-241F006B2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B8B1-2BE3-4464-A10C-C78976D1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A414-9159-4F19-9005-16DEFCC6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4E9E-7CDD-428F-8323-DD68B4AF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D03F-2D6B-4C85-BF5C-DDA90FA7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2D8C-284A-4902-A42E-9337ADFD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65B5-6BD8-48DD-9725-93A00AAD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70C4-EC9D-40F7-B470-DA9BFA9A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A006-12EA-4213-BF14-5D51A939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63E0-943F-4F0B-A10A-662DC46227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hkola-abv.ru/" TargetMode="External"/><Relationship Id="rId2" Type="http://schemas.openxmlformats.org/officeDocument/2006/relationships/hyperlink" Target="http://www.shkola-abv.ru/" TargetMode="External"/><Relationship Id="rId3" Type="http://schemas.openxmlformats.org/officeDocument/2006/relationships/hyperlink" Target="http://www.shkola-abv.ru/" TargetMode="External"/><Relationship Id="rId4" Type="http://schemas.openxmlformats.org/officeDocument/2006/relationships/hyperlink" Target="http://www.shkola-abv.ru/" TargetMode="External"/><Relationship Id="rId5" Type="http://schemas.openxmlformats.org/officeDocument/2006/relationships/hyperlink" Target="http://www.shkola-abv.ru/" TargetMode="External"/><Relationship Id="rId6" Type="http://schemas.openxmlformats.org/officeDocument/2006/relationships/hyperlink" Target="http://www.shkola-abv.ru/" TargetMode="External"/><Relationship Id="rId7" Type="http://schemas.openxmlformats.org/officeDocument/2006/relationships/hyperlink" Target="http://www.shkola-abv.ru/" TargetMode="External"/><Relationship Id="rId8" Type="http://schemas.openxmlformats.org/officeDocument/2006/relationships/hyperlink" Target="https://vk.com/shkola_abv" TargetMode="External"/><Relationship Id="rId9" Type="http://schemas.openxmlformats.org/officeDocument/2006/relationships/hyperlink" Target="https://vk.com/shkola_abv" TargetMode="External"/><Relationship Id="rId10" Type="http://schemas.openxmlformats.org/officeDocument/2006/relationships/image" Target="../media/image3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Елена\Desktop\себе\Зима пластилинография\09abb84c07bc6530f4817c00cb87cb38.jpg"/>
          <p:cNvPicPr/>
          <p:nvPr/>
        </p:nvPicPr>
        <p:blipFill>
          <a:blip r:embed="rId1"/>
          <a:stretch/>
        </p:blipFill>
        <p:spPr>
          <a:xfrm>
            <a:off x="2484360" y="260280"/>
            <a:ext cx="6327720" cy="783288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 rot="16200000">
            <a:off x="-1270080" y="2870640"/>
            <a:ext cx="646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omic Sans MS"/>
              </a:rPr>
              <a:t>Пингвин на льдин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Елена\Desktop\себе\Зима пластилинография\865ee381cb6bbd307478d2df3c0d09c5.jpg"/>
          <p:cNvPicPr/>
          <p:nvPr/>
        </p:nvPicPr>
        <p:blipFill>
          <a:blip r:embed="rId1"/>
          <a:stretch/>
        </p:blipFill>
        <p:spPr>
          <a:xfrm>
            <a:off x="1258920" y="260280"/>
            <a:ext cx="6337440" cy="633744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64680" y="5373000"/>
            <a:ext cx="26906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  <a:ea typeface="Times New Roman"/>
              </a:rPr>
              <a:t>сайт «Школа АБВ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"/>
              </a:rPr>
              <a:t>www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2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3"/>
              </a:rPr>
              <a:t>shkola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4"/>
              </a:rPr>
              <a:t>-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5"/>
              </a:rPr>
              <a:t>abv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6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7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8"/>
              </a:rPr>
              <a:t>https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9"/>
              </a:rPr>
              <a:t>vk.com/shkola_ab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6" descr="Эмблема круг"/>
          <p:cNvPicPr/>
          <p:nvPr/>
        </p:nvPicPr>
        <p:blipFill>
          <a:blip r:embed="rId10"/>
          <a:stretch/>
        </p:blipFill>
        <p:spPr>
          <a:xfrm>
            <a:off x="3924360" y="4437000"/>
            <a:ext cx="770040" cy="755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Users\Елена\Desktop\себе\Зима пластилинография\09abb84c07bc6530f4817c00cb87cb38.jpg"/>
          <p:cNvPicPr/>
          <p:nvPr/>
        </p:nvPicPr>
        <p:blipFill>
          <a:blip r:embed="rId11"/>
          <a:stretch/>
        </p:blipFill>
        <p:spPr>
          <a:xfrm>
            <a:off x="2916360" y="549360"/>
            <a:ext cx="271944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6-01-17T08:38:09Z</dcterms:created>
  <dc:creator>Елена Берюхова</dc:creator>
  <dc:description/>
  <dc:language>en-US</dc:language>
  <cp:lastModifiedBy>Берюхов</cp:lastModifiedBy>
  <dcterms:modified xsi:type="dcterms:W3CDTF">2026-02-25T16:30:55Z</dcterms:modified>
  <cp:revision>3</cp:revision>
  <dc:subject/>
  <dc:title>Слайд 1</dc:title>
</cp:coreProperties>
</file>